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3A2A-99F8-43AD-8288-5D5CF5DC62AB}"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07B7F-7E87-4E11-8910-EFB29AC25BC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σχεδιασμός της μέγιστης ομοιότητας (most similar) συγκρίνει παρόμοιες χώρες υποθέτοντας, όπως το έθεσε ο Lipset, ότι όσο πιο όμοιες είναι οι μονάδες που συγκρίνονται, τόσο πιο εφικτή θα είναι και η απομόνωση των παραγόντων που είναι υπεύθυνοι για τις μεταξύ τους διαφορέ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ίθετα, ο σχεδιασμός της μέγιστης διαφοράς (most different) επιδιώκει να καταδείξει την ισχύ μιας σχέσης, αποδεικνύοντας την εγκυρότητά της σε διαφορετικά περιβάλλοντα.</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8B96C-4AC1-4250-AC26-FDE64140806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τατιστική ανάλυση, η εξαρτημένη μεταβλητή (dependent variable) είναι ο παράγοντας που θέλουμε να ερμηνεύσουμε: για παράδειγμα το κόμμα που ψήφισαν οι ψηφοφόροι.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εξάρτητη μεταβλητή (independent variable) είναι ο παράγοντας που πιστεύουμε ότι μπορεί να επηρεάζει την εξαρτημένη μεταβλητή: για παράδειγμα, το μορφωτικό επίπεδο των ψηφοφόρων.</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6317A-AFD3-4A14-9376-CFAB24B7734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συντελεστής συσχέτισης (correlation coefficient) μετρά την ακρίβεια με την οποία μπορούμε να κάνουμε πρόβλεψη με βάση μία στατιστική μεταβλητή για μία άλλη μεταβλητή.</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C20F-CF29-4119-9F75-B222A81BE1E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ς θετική (positive) συσχέτιση νοείται η παράλληλη, αυξητική ή φθίνουσα, τάση των μεταβλητών.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ς αρνητική (negative) συσχέτιση νοείται η αντιστρόφως ανάλογη πορεία των μεταβλητ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73D92-AEBF-4693-BAA2-FE3DA4BDDA0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ραμμή παλινδρόμησης (regression line) είναι η γραμμή της πλησιέστερης στατιστικής προσαρμογής σε ένα διάγραμμα διασπορά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αποκλίνουσες περιπτώσεις (outliers) είναι οι παρατηρήσεις που απομακρύνονται περισσότερο από την προβλεπόμενη, βάσει της γραμμής παλινδρόμησης, τιμ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75F6-AFB3-43B8-8F86-4E4647F6BEF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σφαλμένη συσχέτιση (spurious correlation) προκύπτει όταν δύο παράγοντες εξαρτώνται από μια τρίτη μεταβλητή.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παράδειγμα, η συσχέτιση ανάμεσα στο ποσοστό των μεταναστών επί του πληθυσμού μιας περιοχής και την εγκληματικότητα στην περιοχή αυτή μπορεί να είναι εσφαλμένη, διότι το πραγματικό αίτιο της εγκληματικότητας είναι η φτώχεια, καθώς και οι δύο μεταβλητές εμφανίζουν υψηλές τιμές σε φτωχές περιοχ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0BD86-D99B-4C57-9632-CE6ADC039FD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ερισσότερες μελέτες στην πολιτική, και ιδιαίτερα στη συγκριτική πολιτική, εστιάζουν στον σύγχρονο κόσμο - κατά κανόνα, αφήνουμε την ιστορία στους ιστορικούς. Αυτός ο καταμερισμός εργασίας είναι φυσικά αυθαίρετος, καθώς το σημερινό παρόν είναι το αυριανό παρελθόν.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ιστορία μπορεί να διευρύνει τη βάση δεδομένων μας, επιτρέποντάς μας να χρησιμοποιήσουμε ακόμα και την πιο διαφορετική προσέγγιση, για να ερμηνεύσουμε τη βαρύτητα ευρημάτων σε διαφορετικές χρονικές περιόδους.</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22920-DACB-4EB3-B075-49B3EC446A1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αλυτική αφήγηση (analytic narrative) επιχειρεί να ενσωματώσει μεθόδους της ιστορίας και της πολιτικής επιστήμης. Εξετάζει το πώς συγκεκριμένη αλληλουχία συνειδητών πράξεων που ανέλαβαν δρώντες με επίγνωση των διαθέσιμων επιλογών τους, οδηγεί σε ένα συγκεκριμένο αποτέλεσμα.</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BA67A-1A48-4B5B-B6B0-EB66104C765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πολιτική διαδικασία είναι εξαρτημένη από το μονοπάτι (path dependent) όταν το αποτέλεσμά της εξαρτάται από προηγούμενες αποφάσεις· με άλλα λόγια, όταν ο τελικός προορισμός εξαρτάται από τη διαδρομή.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ξάρτηση από το μονοπάτι δίνει έμφαση στην ιστορία εν γένει και σε συγκεκριμένα κομβικά σημεία ειδικότερ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C874-0531-4ACA-AB11-C434BFB64D6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όρος ανίχνευση της διαδικασίας (process tracing) αναφέρεται στον εντοπισμό και στην περιγραφή των ιστορικών αλληλουχιών που συνδέουν κάποιο αίτιο με ένα αποτέλεσμ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οια ήταν, π.χ., τα βήματα που οδήγησαν από τον αντισημιτισμό του Hitler στο Ολοκαύτωμα; Μέσω ποιων μηχανισμών μια πολεμική ήττα οδηγεί σε αλλαγή καθεστώτο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ιαδικασία αυτή επανασυνδέει την πολιτική επιστήμη με την ιστορία, δίνοντας ένα ερμηνευτικό πλαίσιο, που βασίζεται σε αιτιακές σχέσεις και όχι σε γενικούς νόμους ή στατιστικές συσχετίσ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2D85-88C7-4AF4-8C5C-D0B4F755B6D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ολιτική έρευνα δεν είναι πεδίο όπου μπορεί να εφαρμοστεί μία και μόνο μέθοδος για όλα τα αντικείμενα μελέτης, οπότε χρησιμοποιείται ευρεία γκάμα εναλλακτικών στρατηγικών.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Οι μελέτες περίπτωσης είναι μία από τις πιο διαδεδομένες στρατηγικές που χρησιμοποιούνται στην πολιτική έρευνα, αποσπώντας τη μερίδα του λέοντος των άρθρων που δημοσιεύονται σε επιστημονικά περιοδικά συγκριτικής πολιτική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μελέτες αυτές συνδυάζουν, αφενός, την ποιοτική διερεύνηση ενός θέματος με όλες τις κατάλληλες τεχνικές, αφετέρου, τη σύνδεσή του με ευρύτερα θέματα που αφορούν τη μελέτη της πολιτικής.</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B129-01F6-4225-BA1A-7D951720B03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ομβικό σημείο (</a:t>
            </a:r>
            <a:r>
              <a:rPr b="0" lang="en-US" sz="1200" spc="-1" strike="noStrike">
                <a:solidFill>
                  <a:srgbClr val="000000"/>
                </a:solidFill>
                <a:latin typeface="Arial"/>
              </a:rPr>
              <a:t>critical juncture) </a:t>
            </a:r>
            <a:r>
              <a:rPr b="0" lang="el-GR" sz="1200" spc="-1" strike="noStrike">
                <a:solidFill>
                  <a:srgbClr val="000000"/>
                </a:solidFill>
                <a:latin typeface="Arial"/>
              </a:rPr>
              <a:t>είναι το σταυροδρόμι στο οποίο εμφανίζονται συμφέροντα, δομές ή θεσμοί που τελικά εδραιώνοντ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968DB-5464-4381-B7B6-CAE9B73C96B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λληλουχία (</a:t>
            </a:r>
            <a:r>
              <a:rPr b="0" lang="en-US" sz="1200" spc="-1" strike="noStrike">
                <a:solidFill>
                  <a:srgbClr val="000000"/>
                </a:solidFill>
                <a:latin typeface="Arial"/>
              </a:rPr>
              <a:t>sequencing)</a:t>
            </a:r>
            <a:r>
              <a:rPr b="0" lang="el-GR" sz="1200" spc="-1" strike="noStrike">
                <a:solidFill>
                  <a:srgbClr val="000000"/>
                </a:solidFill>
                <a:latin typeface="Arial"/>
              </a:rPr>
              <a:t> είναι η χρονική σειρά των γεγονότων, και όχι απλώς η εμφάνισή τους, επηρεάζει το τελικό αποτέλεσμ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1BA3D-18FD-44D8-B388-0470F09CDF1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ς βραδυφλεγές αίτιο</a:t>
            </a:r>
            <a:r>
              <a:rPr b="0" lang="en-US" sz="1200" spc="-1" strike="noStrike">
                <a:solidFill>
                  <a:srgbClr val="000000"/>
                </a:solidFill>
                <a:latin typeface="Arial"/>
              </a:rPr>
              <a:t> (slow-moving cause) </a:t>
            </a:r>
            <a:r>
              <a:rPr b="0" lang="el-GR" sz="1200" spc="-1" strike="noStrike">
                <a:solidFill>
                  <a:srgbClr val="000000"/>
                </a:solidFill>
                <a:latin typeface="Arial"/>
              </a:rPr>
              <a:t>νοείται η επίδραση που ασκείται με βραδείς ρυθμούς αλλά έχει μακροπρόθεσμα δραματικά αποτελέσματ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43764-828C-420D-BFD5-4F8A8A88B3E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ριακό σημείο (threshold) είναι το σημείο εκείνο που, άπαξ και το ξεπεράσει μια μεταβλητή, αρχίζει να ασκεί ισχυρό αντίκτυπο. Το σημείο κατά το οποίο το χιόνι που κυλάει σε μια πλαγιά μετατρέπεται σε χιονοστιβάδα είναι ένα σχετικό παράδειγμ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ολιτική, μπορεί, για παράδειγμα, να χρειαστεί ο αριθμός των γυναικών βουλευτών να αποκτήσει μια κρίσιμη μάζα προτού αποτυπωθούν σημαντικές αλλαγές στην αριθμητική ισορροπία των δύο φύλων στη  σύνθεση των νομοθετικών σω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61957-C9D7-463F-B812-53DB44BA6B4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περίπτωση μπορεί να είναι χρήσιμη επειδή είναι αντιπροσωπευτική, υποδειγματική, αποκλίνουσα, αρχέτυπη ή κρίσιμης σημασίας ή επειδή αποτελεί συνδυασμό αυτών.</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B5B6-3AB2-4B4E-AA2F-0B7894156D7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συγκριτικές μελέτες έχουν τα εξής πλεονεκτήματα</a:t>
            </a:r>
            <a:r>
              <a:rPr b="0" lang="en-US" sz="1200" spc="-1" strike="noStrike">
                <a:solidFill>
                  <a:srgbClr val="000000"/>
                </a:solidFill>
                <a:latin typeface="Arial"/>
              </a:rPr>
              <a:t>:</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 Μαθαίνοντας για τις άλλες κυβερνήσεις, διευρύνουμε την αντίληψή μας και βλέπουμε με άλλο μάτι το δικό μας έθνο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 Η σύγκριση επιτρέπει την κατηγοριοποίηση των πολιτικών δομών και διαδικασι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 Η σύγκριση μας διευκολύνει να ελέγχουμε υποθέσεις για την πολιτικ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 Η σύγκριση δίνει το περιθώριο για τη διατύπωση προβλέψεων και τον έλεγχο των αποτελεσμάτων.</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4A8F2-9A24-4FBD-AE7C-FF3651BFFF9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l-GR" sz="1200" spc="-1" strike="noStrike">
                <a:solidFill>
                  <a:srgbClr val="000000"/>
                </a:solidFill>
                <a:latin typeface="Arial"/>
              </a:rPr>
              <a:t>Υπόθεση (hypothesis) είναι μια πιθανή αρχή που συνδέει δύο ή περισσότερους παράγοντες ή μεταβλητές. Συνδέει, για παράδειγμα, τα εκλογικά και κομματικά συστήματα, ή τον πόλεμο και τις επαναστάσ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2AADB-F9A9-4103-8FA1-99196EE0159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ύγκριση συνεπάγεται, όμως, και αρκετές δυσκολίες, όπως</a:t>
            </a:r>
            <a:r>
              <a:rPr b="0" lang="en-US" sz="1200" spc="-1" strike="noStrike">
                <a:solidFill>
                  <a:srgbClr val="000000"/>
                </a:solidFill>
                <a:latin typeface="Arial"/>
              </a:rPr>
              <a:t>:</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 Το ίδιο φαινόμενο μπορεί να σημαίνει διαφορετικά πράγματα σε διαφορετικές χώρες, προκαλώντας δυσκολίες στη σύγκριση των όμοιων πραγμάτ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 Η παγκοσμιοποίηση έχει ως συνέπεια ότι οι χώρες δεν μπορούν να θεωρούνται πλέον ως ανεξάρτητες η μία από την άλλη, άρα περιορίζει τον αριθμό των περιπτώσεων που είναι διαθέσιμες για τον έλεγχο των θεωρι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 Κάθε ζεύγος χωρών διαφέρει κατά πολλούς τρόπους, πράγμα που σημαίνει ότι ποτέ δεν μπορούμε να επιτύχουμε το όνειρο κάθε πειραματιστή, να κρατήσουμε, δηλαδή, σταθερούς όλους τους παράγοντες, εκτός από τον έναν, του οποίου τις επιδράσεις επιθυμούμε να ελέγξουμ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 Οι χώρες που επιλέγονται για να μελετηθούν μπορεί να μην είναι αντιπροσωπευτικές ως δείγμα, κάτι που περιορίζει τη σημασία των ευρημάτων.</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A214-8E55-4E3A-8D7E-D110BE35EA0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υποθέσεις που αντιτίθενται στην πραγματικότητα (counterfactuals) είναι νοητικοί πειραματισμοί για τα πιθανά αποτελέσματα σε περίπτωση απουσίας ενός παράγοντα που υπήρχε ή παρουσίας ενός παράγοντα που δεν υπήρχε σε μια διαδικασία. Πώς θα ήταν ο κόσμος μας εάν ο Hitler είχε σκοτωθεί σε αυτοκινητιστικό δυστύχημα το 1932 ή αν είχε στεφθεί με επιτυχία η ρωσική του εκστρατεία; (Rosenfeld, 2005). Ποιος θα κυβερνούσε σήμερα την Κίνα εάν οι ηγέτες της δεν είχαν ενστερνιστεί τις οικονομικές μεταρρυθμίσ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1EA42-C4E4-4487-A503-D109570F213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ρόβλημα της μεροληψίας στην επιλογή (selection bias) προκύπτει όταν η επιλογή των περιπτώσεων που θα μελετηθούν καταλήγει σε αποτελέσματα μη αντιπροσωπευτικά της ευρύτερης κατηγορίας από την οποία προέρχονται οι περιπτώσεις και οι μεταβλητές. Για παράδειγμα, η μελέτη των αγγλόφωνων δημοκρατιών δεν είναι αντιπροσωπευτική όλων των δημοκρατιών, ενώ η μελέτη των κομμουνιστικών κομμάτων που παραμένουν σήμερα στην εξουσία δεν είναι τυπική των κομμουνιστικών κομμάτων που ασκούσαν την εξουσία κατά τον 20ό αιών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354D0-9C37-4622-9171-8BF1FBC21A3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οιοτικές συγκρίσεις τοποθετούνται ανάμεσα στις μελέτες περίπτωσης και τη στατιστική ανάλυση. Πρόκειται για τον καθιερωμένο τύπο σύγκρισης, και αφορούν μελέτες με μικρό δείγμα, που επικεντρώνονται στην επισταμένη σύγκριση μιας πτυχής της πολιτικής σε έναν περιορισμένο αριθμό χωρών.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02634-872C-4F75-9EC4-73EE266BF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99726-72EB-464B-A6D6-522EBA331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4909A-009D-4EEC-A56C-E9DD3730A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966B3-2D62-417B-8D59-93B085887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659123-A97E-40A2-A04D-A5A06A802E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F7AD8-E173-4021-A20E-33F5AAF28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9296B0-09C7-40D9-BA20-DD749B9CC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56D9D-08C3-4584-A492-B30786F2C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9EA91-232C-43F1-910A-86E10E2FD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D8276-C2D7-425F-BF18-1EF368EAE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D73FD-86DE-4D6F-8E5D-9A4D44EC2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7429E-3EFA-4E4F-AB42-89F083726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C6C7D-1D2A-4F6D-8889-0072694D3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F7ED8-F431-4EFE-9D01-DCD9F4A09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94BD5-C84A-4517-9487-1F97F7E90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2FD536-CD7A-4D43-B34C-054F50E214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BDC8C3-D07C-4811-A8BE-7079B81727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59809-1569-4730-814C-E6ADEB30C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619E7-96F3-48AB-91BA-8A5777C93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A29C8-EAC4-4BE1-9FBC-49C0317BF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13DC2-BC88-428E-9548-DCB24116C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DFC5A-9002-462F-B082-74719733D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1B0AD-7CE1-44FA-A5DF-0817BA2CC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8899D-4B3D-49B9-8DBD-533367F69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3C842-9F4D-4534-A28F-62E725497375}"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7A0B9-D194-400A-A074-645E337AD27E}"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3</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ρατηγικές έρευνα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οιοτικές συγκρίσεις</a:t>
            </a:r>
            <a:endParaRPr b="0" lang="en-US" sz="4200" spc="-1" strike="noStrike">
              <a:solidFill>
                <a:srgbClr val="66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έθοδοι επιλογής χωρών σε μια ποιοτική σύγκριση</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χεδιασμός της μέγιστης ομοιότητα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χεδιασμός της μέγιστης διαφορά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οσοτική ανάλυση</a:t>
            </a:r>
            <a:endParaRPr b="0" lang="en-US" sz="4200" spc="-1" strike="noStrike">
              <a:solidFill>
                <a:srgbClr val="66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ταβλητές ποσοτικής ανάλυσης</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ξαρτημένη</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νεξάρτητ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οσοτική ανάλυση</a:t>
            </a:r>
            <a:endParaRPr b="0" lang="en-US" sz="4200" spc="-1" strike="noStrike">
              <a:solidFill>
                <a:srgbClr val="66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συντελεστής συσχέτισης (correlation coefficient) μετρά την ακρίβεια με την οποία μπορούμε να κάνουμε πρόβλεψη με βάση μία στατιστική μεταβλητή για μία άλλη μεταβλητ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οσοτική ανάλυση</a:t>
            </a:r>
            <a:endParaRPr b="0" lang="en-US" sz="4200" spc="-1" strike="noStrike">
              <a:solidFill>
                <a:srgbClr val="660033"/>
              </a:solidFill>
              <a:latin typeface="Times New Roman"/>
            </a:endParaRPr>
          </a:p>
        </p:txBody>
      </p:sp>
      <p:sp>
        <p:nvSpPr>
          <p:cNvPr id="1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Ως θετική (positive) συσχέτιση νοείται η παράλληλη, αυξητική ή φθίνουσα, τάση των μεταβλητών.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Ως αρνητική (negative) συσχέτιση νοείται η αντιστρόφως ανάλογη πορεία των μεταβλητών.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οσοτική ανάλυση</a:t>
            </a:r>
            <a:endParaRPr b="0" lang="en-US" sz="4200" spc="-1" strike="noStrike">
              <a:solidFill>
                <a:srgbClr val="660033"/>
              </a:solidFill>
              <a:latin typeface="Times New Roman"/>
            </a:endParaRPr>
          </a:p>
        </p:txBody>
      </p:sp>
      <p:sp>
        <p:nvSpPr>
          <p:cNvPr id="1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Γραμμή παλινδρόμησης (regression line) είναι η γραμμή της πλησιέστερης στατιστικής προσαρμογής σε ένα διάγραμμα διασπορά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αποκλίνουσες περιπτώσεις (outliers) είναι οι παρατηρήσεις που απομακρύνονται περισσότερο από την προβλεπόμενη, βάσει της γραμμής παλινδρόμησης, τιμή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οσοτική ανάλυση</a:t>
            </a:r>
            <a:endParaRPr b="0" lang="en-US" sz="4200" spc="-1" strike="noStrike">
              <a:solidFill>
                <a:srgbClr val="66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σφαλμένη συσχέτιση (spurious correlation) προκύπτει όταν δύο παράγοντες εξαρτώνται από μια τρίτη μεταβλητ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Ιστορική ανάλυση</a:t>
            </a:r>
            <a:endParaRPr b="0" lang="en-US" sz="4200" spc="-1" strike="noStrike">
              <a:solidFill>
                <a:srgbClr val="660033"/>
              </a:solidFill>
              <a:latin typeface="Times New Roman"/>
            </a:endParaRPr>
          </a:p>
        </p:txBody>
      </p:sp>
      <p:sp>
        <p:nvSpPr>
          <p:cNvPr id="13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ιστορία μπορεί να διευρύνει τη βάση δεδομένων μας, επιτρέποντάς μας να χρησιμοποιήσουμε ακόμα και την πιο διαφορετική προσέγγιση, για να ερμηνεύσουμε τη βαρύτητα ευρημάτων σε διαφορετικές χρονικές περιόδου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Ιστορική ανάλυση</a:t>
            </a:r>
            <a:endParaRPr b="0" lang="en-US" sz="4200" spc="-1" strike="noStrike">
              <a:solidFill>
                <a:srgbClr val="66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αναλυτική αφήγηση (analytic narrative) επιχειρεί να ενσωματώσει μεθόδους της ιστορίας και της πολιτικής επιστήμης. Εξετάζει το πώς συγκεκριμένη αλληλουχία συνειδητών πράξεων που ανέλαβαν δρώντες με επίγνωση των διαθέσιμων επιλογών τους, οδηγεί σε ένα συγκεκριμένο αποτέλεσμα.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Bates κ.ά., 199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Ιστορική ανάλυση</a:t>
            </a:r>
            <a:endParaRPr b="0" lang="en-US" sz="4200" spc="-1" strike="noStrike">
              <a:solidFill>
                <a:srgbClr val="66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ια πολιτική διαδικασία είναι εξαρτημένη από το μονοπάτι (path dependent) όταν το αποτέλεσμά της εξαρτάται από προηγούμενες αποφάσεις· με άλλα λόγια, όταν ο τελικός προορισμός εξαρτάται από τη διαδρομ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Ιστορική ανάλυση</a:t>
            </a:r>
            <a:endParaRPr b="0" lang="en-US" sz="4200" spc="-1" strike="noStrike">
              <a:solidFill>
                <a:srgbClr val="66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όρος ανίχνευση της διαδικασίας (process tracing) αναφέρεται στον εντοπισμό και στην περιγραφή των ιστορικών αλληλουχιών που συνδέουν κάποιο αίτιο με ένα αποτέλεσμ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Μελέτες περίπτωσης</a:t>
            </a:r>
            <a:endParaRPr b="0" lang="en-US" sz="42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μελέτες περίπτωσης συνδυάζουν, αφενός, την ποιοτική διερεύνηση ενός θέματος με όλες τις κατάλληλες τεχνικές, αφετέρου, τη σύνδεσή του με ευρύτερα θέματα που αφορούν τη μελέτη της πολιτική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Ιστορική ανάλυση</a:t>
            </a:r>
            <a:endParaRPr b="0" lang="en-US" sz="4200" spc="-1" strike="noStrike">
              <a:solidFill>
                <a:srgbClr val="66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ομβικό σημείο (</a:t>
            </a:r>
            <a:r>
              <a:rPr b="0" lang="en-US" sz="2800" spc="-1" strike="noStrike">
                <a:solidFill>
                  <a:srgbClr val="000000"/>
                </a:solidFill>
                <a:latin typeface="Arial"/>
              </a:rPr>
              <a:t>critical juncture) </a:t>
            </a:r>
            <a:r>
              <a:rPr b="0" lang="el-GR" sz="2800" spc="-1" strike="noStrike">
                <a:solidFill>
                  <a:srgbClr val="000000"/>
                </a:solidFill>
                <a:latin typeface="Arial"/>
              </a:rPr>
              <a:t>είναι το σταυροδρόμι στο οποίο εμφανίζονται συμφέροντα, δομές ή θεσμοί που τελικά εδραιώνοντα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Ιστορική ανάλυση</a:t>
            </a:r>
            <a:endParaRPr b="0" lang="en-US" sz="4200" spc="-1" strike="noStrike">
              <a:solidFill>
                <a:srgbClr val="660033"/>
              </a:solidFill>
              <a:latin typeface="Times New Roman"/>
            </a:endParaRPr>
          </a:p>
        </p:txBody>
      </p:sp>
      <p:sp>
        <p:nvSpPr>
          <p:cNvPr id="14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λληλουχία (</a:t>
            </a:r>
            <a:r>
              <a:rPr b="0" lang="en-US" sz="2800" spc="-1" strike="noStrike">
                <a:solidFill>
                  <a:srgbClr val="000000"/>
                </a:solidFill>
                <a:latin typeface="Arial"/>
              </a:rPr>
              <a:t>sequencing)</a:t>
            </a:r>
            <a:r>
              <a:rPr b="0" lang="el-GR" sz="2800" spc="-1" strike="noStrike">
                <a:solidFill>
                  <a:srgbClr val="000000"/>
                </a:solidFill>
                <a:latin typeface="Arial"/>
              </a:rPr>
              <a:t> είναι η χρονική σειρά των γεγονότων, και όχι απλώς η εμφάνισή τους, επηρεάζει το τελικό αποτέλεσμ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Ιστορική ανάλυση</a:t>
            </a:r>
            <a:endParaRPr b="0" lang="en-US" sz="4200" spc="-1" strike="noStrike">
              <a:solidFill>
                <a:srgbClr val="66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Ως βραδυφλεγές αίτιο</a:t>
            </a:r>
            <a:r>
              <a:rPr b="0" lang="en-US" sz="2800" spc="-1" strike="noStrike">
                <a:solidFill>
                  <a:srgbClr val="000000"/>
                </a:solidFill>
                <a:latin typeface="Arial"/>
              </a:rPr>
              <a:t> (slow-moving cause) </a:t>
            </a:r>
            <a:r>
              <a:rPr b="0" lang="el-GR" sz="2800" spc="-1" strike="noStrike">
                <a:solidFill>
                  <a:srgbClr val="000000"/>
                </a:solidFill>
                <a:latin typeface="Arial"/>
              </a:rPr>
              <a:t>νοείται η επίδραση που ασκείται με βραδείς ρυθμούς αλλά έχει μακροπρόθεσμα δραματικά αποτελέσματ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Ιστορική ανάλυση</a:t>
            </a:r>
            <a:endParaRPr b="0" lang="en-US" sz="4200" spc="-1" strike="noStrike">
              <a:solidFill>
                <a:srgbClr val="66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ριακό σημείο (threshold) είναι το σημείο εκείνο που, άπαξ και το ξεπεράσει μια μεταβλητή, αρχίζει να ασκεί ισχυρό αντίκτυπο.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4 - TextBox"/>
          <p:cNvSpPr/>
          <p:nvPr/>
        </p:nvSpPr>
        <p:spPr>
          <a:xfrm>
            <a:off x="1219320" y="2328840"/>
            <a:ext cx="701028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Μελέτες περίπτωσης</a:t>
            </a:r>
            <a:endParaRPr b="0" lang="en-US" sz="4200" spc="-1" strike="noStrike">
              <a:solidFill>
                <a:srgbClr val="66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ίδη μελετών περίπτωσης</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ντιπροσωπευτική</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Υποδειγματική</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ποκλίνουσ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ρχέτυπη</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ρίσιμ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υγκριτικές μελέτες</a:t>
            </a:r>
            <a:endParaRPr b="0" lang="en-US" sz="4200" spc="-1" strike="noStrike">
              <a:solidFill>
                <a:srgbClr val="66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λεονεκτήματα συγκριτικών μελετών</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ιεύρυνση της κατανόηση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ατηγοριοποίηση</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Έλεγχος των υποθέσεων</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Ικανότητα πρόβλεψης</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υγκριτικές μελέτες</a:t>
            </a:r>
            <a:endParaRPr b="0" lang="en-US" sz="4200" spc="-1" strike="noStrike">
              <a:solidFill>
                <a:srgbClr val="66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πόθεση (hypothesis) είναι μια πιθανή αρχή που συνδέει δύο ή περισσότερους παράγοντες ή μεταβλητέ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υγκριτικές μελέτες</a:t>
            </a:r>
            <a:endParaRPr b="0" lang="en-US" sz="4200" spc="-1" strike="noStrike">
              <a:solidFill>
                <a:srgbClr val="66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δυσκολίες της σύγκρισης</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ατανόηση νοήματο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αγκοσμιοποίηση</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άρα πολλές μεταβλητές, πολύ λίγες χώρε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εροληψία στην επιλογή</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υγκριτικές μελέτες</a:t>
            </a:r>
            <a:endParaRPr b="0" lang="en-US" sz="4200" spc="-1" strike="noStrike">
              <a:solidFill>
                <a:srgbClr val="66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υποθέσεις που αντιτίθενται στην πραγματικότητα (counterfactuals) είναι νοητικοί πειραματισμοί για τα πιθανά αποτελέσματα σε περίπτωση απουσίας ενός παράγοντα που υπήρχε ή παρουσίας ενός παράγοντα που δεν υπήρχε σε μια διαδικασί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υγκριτικές μελέτες</a:t>
            </a:r>
            <a:endParaRPr b="0" lang="en-US" sz="4200" spc="-1" strike="noStrike">
              <a:solidFill>
                <a:srgbClr val="66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πρόβλημα της μεροληψίας στην επιλογή (selection bias) προκύπτει όταν η επιλογή των περιπτώσεων που θα μελετηθούν καταλήγει σε αποτελέσματα μη αντιπροσωπευτικά της ευρύτερης κατηγορίας από την οποία προέρχονται οι περιπτώσεις και οι μεταβλητέ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οιοτικές συγκρίσεις</a:t>
            </a:r>
            <a:endParaRPr b="0" lang="en-US" sz="4200" spc="-1" strike="noStrike">
              <a:solidFill>
                <a:srgbClr val="66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ποιοτικές συγκρίσεις τοποθετούνται ανάμεσα στις μελέτες περίπτωσης και τη στατιστική ανάλυση. Πρόκειται για τον καθιερωμένο τύπο σύγκρισης, και αφορούν μελέτες με μικρό δείγμα, που επικεντρώνονται στην επισταμένη σύγκριση μιας πτυχής της πολιτικής σε έναν περιορισμένο αριθμό χωρώ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2T05:50:52Z</dcterms:created>
  <dc:creator>pc</dc:creator>
  <dc:description/>
  <dc:language>en-US</dc:language>
  <cp:lastModifiedBy>EPIMELEIA</cp:lastModifiedBy>
  <dcterms:modified xsi:type="dcterms:W3CDTF">2013-09-23T08:25:27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